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0" y="1930320"/>
          <a:ext cx="9144000" cy="492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930320"/>
                    <a:ext cx="9144000" cy="49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257480" y="43434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er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2057400"/>
            <a:ext cx="70866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Cool Ti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VACET_Logo-Background" descr="file:///C:/LBLDesk/VACET_Logo-Background.jpg"/>
          <p:cNvPicPr/>
          <p:nvPr/>
        </p:nvPicPr>
        <p:blipFill>
          <a:blip r:embed="rId3"/>
          <a:stretch/>
        </p:blipFill>
        <p:spPr>
          <a:xfrm>
            <a:off x="0" y="0"/>
            <a:ext cx="914400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Wes</cp:lastModifiedBy>
  <dcterms:modified xsi:type="dcterms:W3CDTF">2009-02-10T18:57:21Z</dcterms:modified>
  <cp:revision>130</cp:revision>
  <dc:subject/>
  <dc:title>PowerPoint Presentation</dc:title>
</cp:coreProperties>
</file>